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693520" cy="123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380200" cy="40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343400"/>
            <a:ext cx="5473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35F-61C7-4549-B5A5-EE2E247B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114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98C-F525-4931-86E3-B9B0F950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952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85F-B43D-4AF1-AFA3-5F3697EE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08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08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B2B-AE6A-4CB8-BBE6-CE6B0F81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7A40-A862-4995-B4A2-7D22B4D2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23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9088-3CF4-41AF-8F37-88B8011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23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5696-B6BC-4C3A-9005-3936847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4146-411C-4086-B6A4-481790AF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23B-DD15-4B8C-B527-9899AA8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234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B87-9BB3-4005-9345-04941C0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E4B-F65B-4671-8123-E28C908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23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90F-BFA0-436B-A171-632BE57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952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F96-010E-4E59-9986-DB2B18BD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1ED-38AA-418E-A1D2-C83892C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114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533-9494-4011-A1F6-685FB96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952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8EF4-E83C-4320-9AA4-4812A393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328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50080" y="16002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328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50080" y="3911400"/>
            <a:ext cx="2615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7484-11C1-4B0D-B241-2666E2CD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23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CF9-2286-4087-9D05-229353B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7B2-1D6A-41E0-8A23-6D012A9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6D4-5CCF-4EE1-98CC-149277A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234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2FA-AB23-4738-B875-66046B8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1FE-FCF4-4D77-BED2-3F78F6FE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9520" y="39114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8FD-F9F6-4FEA-9B43-9D64F7D0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6396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11400"/>
            <a:ext cx="81234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565-19C5-4F6D-973A-50EA808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234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23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1680"/>
            <a:ext cx="20271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0275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359BA-6BC1-4DEF-9817-4D0F198756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5168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1680"/>
            <a:ext cx="20271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7892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0275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ACF93-E133-46F9-BC87-969DF5764B1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cap="sq"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19280" y="2492280"/>
            <a:ext cx="6048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132000" y="105264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65372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60280"/>
            <a:ext cx="792000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DE 26% - R$ 21.780.109,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DEB – R$ 24.6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URSO LIVRE NA EDUCAÇÃO – R$ 1.96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LÁRIO EDUCAÇÃO: 2.1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UTROS RECURSOS: 750.012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TOTAL DA EDUCAÇÃO P/ 2021 R$ 51.190.141,25 </a:t>
            </a: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DEMONSTRATIVO DA PREVISÃO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1" lang="pt-BR" sz="2300" spc="-1" strike="noStrike">
                <a:solidFill>
                  <a:srgbClr val="3b812f"/>
                </a:solidFill>
                <a:latin typeface="Comic Sans MS"/>
              </a:rPr>
              <a:t>APLICAÇÃO DE RECURSOS 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b812f"/>
                </a:solidFill>
                <a:latin typeface="Comic Sans MS"/>
              </a:rPr>
              <a:t>AÇÕES E SERVIÇOS PÚBLICOS 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b812f"/>
                </a:solidFill>
                <a:latin typeface="Comic Sans MS"/>
              </a:rPr>
              <a:t>SAÚ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en-US" sz="17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SPS 19% - R$ 23.369.081,4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7398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TRANSFER VINCULADAS À SAÚDE  R$ 13.611.774,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7398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LIVRE -   R$ 4.252.833,6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800000"/>
                </a:solidFill>
                <a:latin typeface="Comic Sans MS"/>
              </a:rPr>
              <a:t>TOTAL DA SAÚDE P/ 2021  R$ 41.233.689,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2216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2520" cy="1025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557360"/>
            <a:ext cx="792000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ESPESA COM PESSO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Limite Prudencial Poder Executivo: 51,30%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xecutivo – R$ 80.888.237,6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(com dedução do IRR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= 45,47 % da R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2520" cy="102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557360"/>
            <a:ext cx="792000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ESPESA COM PESSO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Limite Prudencial Poder Legislativo: 5,70%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Legilativo – R$ 2.548.000,00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(com dedução do IRR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= 1,43% da R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2520" cy="1025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628640"/>
            <a:ext cx="813744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3b812f"/>
                </a:solidFill>
                <a:latin typeface="Comic Sans MS"/>
              </a:rPr>
              <a:t>PROJEÇÕES 20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RCL – RECEITA CORRENTE LÍQUI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mic Sans MS"/>
              </a:rPr>
              <a:t>R$ 177.886.059,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CL – DÍVIDA CONSOLIDADA LÍQUI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006633"/>
                </a:solidFill>
                <a:latin typeface="Comic Sans MS"/>
              </a:rPr>
              <a:t>16.180.570,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628640"/>
            <a:ext cx="79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SULTADO PRIM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mic Sans MS"/>
              </a:rPr>
              <a:t>R$ 153.779,9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RESULTADO PRI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resenta a diferença entre receitas e despesas prim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1628640"/>
            <a:ext cx="7920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SULTADO NOMINAL – ACIMA DA LINH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3b812f"/>
                </a:solidFill>
                <a:latin typeface="Comic Sans MS"/>
              </a:rPr>
              <a:t>R$  (-) 223.720,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3b812f"/>
                </a:solidFill>
                <a:latin typeface="Comic Sans MS"/>
              </a:rPr>
              <a:t>Resultado primário : 153.779,93(+) Juros Ativos 524.139,00 (-) Juros passivos 901.639,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RESULTADO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riação nominal da dívida líquida atual com referência 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AUDIÊNCI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LEI DE DIRETRIZ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ORÇAMENTÁ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ITURA MUNICIPAL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225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rtigo 165,II, § 2º da Constituição Federa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rtigo 5º,I e art.112 ,II da Lei Orgânica do Município e art.115 e art. 117 alterados pelas emendas: 03/2017 e emenda 04/201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rtigo 48, Inciso I da Lei Complementar nº 101/2000 e Lei Federal nº 4.320/196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22520" cy="102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ITURA MUNICIPAL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Tem como objetivo estabelecer as diretrizes, prioridades e metas da administração municipal para cada exercício financeiro, sendo formado pelos orçamentos fiscal, de investimento e da seguridade social,compatibilizando as iniciativas, objetivos e metas estabelecidos no Plano Plurianual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22520" cy="102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ITURA MUNICIPAL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22520" cy="1025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907920"/>
            <a:ext cx="79200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CEI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Receita Tributária – R$ 86.883.23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Receita de Contribuições – R$ 4.306.278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Receita Patrimonial – R$ 504.007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Receita de Serviços – R$ 54.607,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Transferências Correntes – R$ 97.147.452,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Outras Receitas Correntes – R$ 6.452.047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Receitas de Capital – R$ 12.776.630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b812f"/>
                </a:solidFill>
                <a:latin typeface="Comic Sans MS"/>
              </a:rPr>
              <a:t>Deduções da Receita -  R$ (-) </a:t>
            </a:r>
            <a:r>
              <a:rPr b="0" lang="en-US" sz="1600" spc="-1" strike="noStrike">
                <a:solidFill>
                  <a:srgbClr val="3b812f"/>
                </a:solidFill>
                <a:latin typeface="Comic Sans MS"/>
              </a:rPr>
              <a:t>12.124.252,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TOTAL DA RECEITA = R$ 196.000.0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524640"/>
            <a:ext cx="622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125360"/>
            <a:ext cx="792036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DESPES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Pessoal e Encargos – R$ 83.436.237,61 (Executivo e legislativ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      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Juros e Encargos da Dívida – R$ 5.831.475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Outras Despesas Correntes – R$ 80.627.720,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Investimentos – R$ 18.968.005,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Inversões Financeiras – R$ 3.067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Amortização da Dívida – R$3.0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3b812f"/>
                </a:solidFill>
                <a:latin typeface="Comic Sans MS"/>
              </a:rPr>
              <a:t>Reserva de Contingência e Emendas Impositivas– R$ 4.133.493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Comic Sans MS"/>
              </a:rPr>
              <a:t>TOTAL DA DESPESA   R$ 196.0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RESUMO DE PROJEÇÃO DA DESPESA P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  </a:t>
            </a: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SECRET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FEITURA 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6640" y="1725480"/>
          <a:ext cx="8007480" cy="294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6640" y="1725480"/>
                    <a:ext cx="800748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836640"/>
            <a:ext cx="79200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DEMONSTRATIVO DA PREVISÃO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APLICAÇÃO DE RECURSOS N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MANUT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3b812f"/>
                </a:solidFill>
                <a:latin typeface="Comic Sans MS"/>
              </a:rPr>
              <a:t>E DESENVOLVIMENTO DO ENS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22160" cy="102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b81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 Narrow"/>
              </a:rPr>
              <a:t>PREFEITURA</a:t>
            </a:r>
            <a:r>
              <a:rPr b="0" lang="pt-BR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Arial Narrow"/>
              </a:rPr>
              <a:t>MUNICIPAL DE CANE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6:47:22Z</dcterms:created>
  <dc:creator>alessandro</dc:creator>
  <dc:description/>
  <dc:language>en-US</dc:language>
  <cp:lastModifiedBy/>
  <dcterms:modified xsi:type="dcterms:W3CDTF">2020-07-27T14:35:51Z</dcterms:modified>
  <cp:revision>178</cp:revision>
  <dc:subject/>
  <dc:title>Slide 1</dc:title>
</cp:coreProperties>
</file>